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631-6754-49EC-8082-0FC1BEA2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49B-377A-43B2-AD57-885DEFA4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9F4-F08F-4DC0-8D8A-208BD05D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5A5-B7BE-4A79-BED6-08FD9B06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C1B1-DD5C-403D-9821-C8AA5E5F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9C67-80A1-4C45-8A53-9D9A08DD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3383-D716-4DB6-85B9-1FC4E233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DDC0-9888-4F9D-B30E-C383742D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FF51-A931-4EC9-B729-C20AB936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798F-624B-4B90-A65C-08CA76E7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FBBB-5E17-4215-9E60-B1CEDEE0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5D6-3616-4AE4-B87B-9BC582F4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01F8-88DE-4CA8-B16D-43F79762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03E0-10E5-4062-9E50-4F855802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C069-019A-4643-AC65-BD6D9B7D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0538-446F-4124-96BA-BC81E923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C016-633D-47DF-96BA-0CBE3276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4A0-5DC9-46B5-88FB-24EAE2DF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A65-4B45-41BD-83DC-4A30E05F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C7E-3B3C-44A1-B167-E858DD90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38C-3726-4B14-BC6D-C16ED075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F3D-4332-4355-9516-1AA4C437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A22-AD67-432F-8EB8-3CA41481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887-6FE5-42EB-897F-AB1BC281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463A-C7E7-426B-AEE8-188DFF60442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4C5C-66A5-461C-B01E-8A29B2811F9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5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6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38088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63b1"/>
                </a:solidFill>
                <a:latin typeface="Tahoma"/>
              </a:rPr>
              <a:t>Me llamo _________</a:t>
            </a:r>
            <a:r>
              <a:rPr b="1" lang="es-ES_tradnl" sz="3600" spc="-1" strike="noStrike">
                <a:solidFill>
                  <a:srgbClr val="ff63b1"/>
                </a:solidFill>
                <a:latin typeface="Tahoma"/>
              </a:rPr>
              <a:t>	</a:t>
            </a:r>
            <a:r>
              <a:rPr b="1" lang="es-ES_tradnl" sz="3600" spc="-1" strike="noStrike">
                <a:solidFill>
                  <a:srgbClr val="ff63b1"/>
                </a:solidFill>
                <a:latin typeface="Tahoma"/>
              </a:rPr>
              <a:t> clase 8 N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3b1"/>
                </a:solidFill>
                <a:latin typeface="Tahoma"/>
              </a:rPr>
              <a:t>La fecha es el 21 de noviembre del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1744560"/>
            <a:ext cx="8991360" cy="514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Tahoma"/>
              </a:rPr>
              <a:t>Prop</a:t>
            </a:r>
            <a:r>
              <a:rPr b="0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ósito # 16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¿Cómo repasamos los miembros de la famil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Actividad Inic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Una familia colombian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Copia y respo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Walter Roa Delgado is marrying Karina Díaz López. What will her complete married nam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uisa Jiménez de Rivera and Felipe Alba Martín had a baby boy named Juan Carlos. What will the baby’s complete nam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lores Iglesias Arias is marrying Ignacio Mejía Ruiz. What will her complete married nam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4120" y="373392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Karina Díaz de R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97360" y="510552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Juan Carlos Alba Jimé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95200" y="632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Dolores Iglesias de Mej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3b1"/>
                </a:solidFill>
                <a:latin typeface="Tahoma"/>
              </a:rPr>
              <a:t>Tarea#16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BOOK: On a separate pap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3b1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pia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sum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. 151-15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CTIVIDA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. 15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822d"/>
                </a:solidFill>
                <a:latin typeface="Tahoma"/>
              </a:rPr>
              <a:t>HAND IN AT BEGINNING OF CLASS TOMORROW. THIS WILL BE GRADES AS QUI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* DO NOT USE THE INTERNET TO COPY, CUT AND PASTE. *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63b1"/>
                </a:solidFill>
                <a:latin typeface="Tahoma"/>
              </a:rPr>
              <a:t>Repaso del Propósito 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799"/>
              </a:spcBef>
              <a:buClr>
                <a:srgbClr val="ff63b1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cc00"/>
                </a:solidFill>
                <a:latin typeface="Tahoma"/>
              </a:rPr>
              <a:t>Leer, </a:t>
            </a:r>
            <a:r>
              <a:rPr b="0" lang="es-ES_tradnl" sz="3200" spc="-1" strike="noStrike" u="sng">
                <a:solidFill>
                  <a:srgbClr val="00cc00"/>
                </a:solidFill>
                <a:uFillTx/>
                <a:latin typeface="Tahoma"/>
              </a:rPr>
              <a:t>Lectura: pt. II</a:t>
            </a:r>
            <a:r>
              <a:rPr b="0" lang="es-ES_tradnl" sz="3200" spc="-1" strike="noStrike">
                <a:solidFill>
                  <a:srgbClr val="00cc00"/>
                </a:solidFill>
                <a:latin typeface="Tahoma"/>
              </a:rPr>
              <a:t> p. 142-143, en voz al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799"/>
              </a:spcBef>
              <a:buClr>
                <a:srgbClr val="ff63b1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cc00"/>
                </a:solidFill>
                <a:latin typeface="Tahoma"/>
              </a:rPr>
              <a:t>Comprensión de Lectura p. 143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799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cc00"/>
                </a:solidFill>
                <a:latin typeface="Tahoma"/>
              </a:rPr>
              <a:t>Hay </a:t>
            </a:r>
            <a:r>
              <a:rPr b="1" lang="es-ES_tradnl" sz="3200" spc="-1" strike="noStrike">
                <a:solidFill>
                  <a:srgbClr val="00cc00"/>
                </a:solidFill>
                <a:latin typeface="Tahoma"/>
              </a:rPr>
              <a:t>seis</a:t>
            </a:r>
            <a:r>
              <a:rPr b="0" lang="es-ES_tradnl" sz="3200" spc="-1" strike="noStrike">
                <a:solidFill>
                  <a:srgbClr val="00cc00"/>
                </a:solidFill>
                <a:latin typeface="Tahoma"/>
              </a:rPr>
              <a:t> personas en la familia de A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799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00"/>
                </a:solidFill>
                <a:latin typeface="Tahoma"/>
              </a:rPr>
              <a:t>El abuelo y la abuela </a:t>
            </a:r>
            <a:r>
              <a:rPr b="0" lang="es-ES_tradnl" sz="3200" spc="-1" strike="noStrike">
                <a:solidFill>
                  <a:srgbClr val="00cc00"/>
                </a:solidFill>
                <a:latin typeface="Tahoma"/>
              </a:rPr>
              <a:t>de José viven con la familia de José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799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cc00"/>
                </a:solidFill>
                <a:latin typeface="Tahoma"/>
              </a:rPr>
              <a:t>Ana estudia en </a:t>
            </a:r>
            <a:r>
              <a:rPr b="1" lang="es-ES_tradnl" sz="3200" spc="-1" strike="noStrike">
                <a:solidFill>
                  <a:srgbClr val="00cc00"/>
                </a:solidFill>
                <a:latin typeface="Tahoma"/>
              </a:rPr>
              <a:t>una escuela inter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799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cc00"/>
                </a:solidFill>
                <a:latin typeface="Tahoma"/>
              </a:rPr>
              <a:t>José estudia </a:t>
            </a:r>
            <a:r>
              <a:rPr b="1" lang="es-ES_tradnl" sz="3200" spc="-1" strike="noStrike">
                <a:solidFill>
                  <a:srgbClr val="00cc00"/>
                </a:solidFill>
                <a:latin typeface="Tahoma"/>
              </a:rPr>
              <a:t>la física y la quím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799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cc00"/>
                </a:solidFill>
                <a:latin typeface="Tahoma"/>
              </a:rPr>
              <a:t>La asignatura favorita de Ana es </a:t>
            </a:r>
            <a:r>
              <a:rPr b="1" lang="es-ES_tradnl" sz="3200" spc="-1" strike="noStrike">
                <a:solidFill>
                  <a:srgbClr val="00cc00"/>
                </a:solidFill>
                <a:latin typeface="Tahoma"/>
              </a:rPr>
              <a:t>el ing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352680"/>
            <a:ext cx="723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Falso; Hay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eis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886200"/>
            <a:ext cx="7543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C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5029200"/>
            <a:ext cx="784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Falso, estudia en una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scuela secun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5562720"/>
            <a:ext cx="7010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Falso, estudia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ingles y españ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6172200"/>
            <a:ext cx="7925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C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3b1"/>
                </a:solidFill>
                <a:latin typeface="Tahoma"/>
              </a:rPr>
              <a:t>Repaso la Tarea 1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.1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ómo te llama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De dónde eres? (paí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os años tien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do es tu cumpleañ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En qué año nacist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Dónde vives? (ciud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l es tu numero de teléfon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te gusta hacer en tu tiempo libre (5 activida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as personas hay en tu familia? ¿Quiénes s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En qué escuela estudia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estudias en la escuel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l es tu asignatura favori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152388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Me llamo 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190512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(Yo) Soy de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22860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(Yo) Tengo ______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743200"/>
            <a:ext cx="723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Mi cumpleaños es el _____ de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3124080"/>
            <a:ext cx="3124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Nací en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50532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(Yo) Vivo en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962520"/>
            <a:ext cx="723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Mi numero de teléfono es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4343400"/>
            <a:ext cx="8153280" cy="44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ff"/>
                </a:solidFill>
                <a:latin typeface="Arial"/>
                <a:ea typeface="Arial"/>
              </a:rPr>
              <a:t>Me gusta ___,____,____,____ y _____ en mi tiempo lib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4724280"/>
            <a:ext cx="815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Hay ____ personas en mi familia. Son mi___,___ y 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5181480"/>
            <a:ext cx="723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udio en TR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562720"/>
            <a:ext cx="8381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udio matemáticas, ingles, química, español, histori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6324480"/>
            <a:ext cx="723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Mi asignatura favorita es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Tahoma"/>
              </a:rPr>
              <a:t>Repaso de Vocabulario</a:t>
            </a:r>
            <a:br>
              <a:rPr sz="4000"/>
            </a:br>
            <a:r>
              <a:rPr b="0" lang="en-US" sz="4000" spc="-1" strike="noStrike">
                <a:solidFill>
                  <a:srgbClr val="ff822d"/>
                </a:solidFill>
                <a:latin typeface="Tahoma"/>
              </a:rPr>
              <a:t>La familia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2581200" cy="1771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2590920" cy="1828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80880" y="44197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486400" y="4343400"/>
            <a:ext cx="2311560" cy="1857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" y="32767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m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581280"/>
            <a:ext cx="2286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  <a:ea typeface="Tahoma"/>
              </a:rPr>
              <a:t>(la mam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2907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3733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19880" y="320040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3657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  <a:ea typeface="Tahoma"/>
              </a:rPr>
              <a:t>(el pap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40240" y="327672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671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- 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MX" sz="3200" spc="-1" strike="noStrike">
                <a:solidFill>
                  <a:srgbClr val="0033cc"/>
                </a:solidFill>
                <a:latin typeface="Tahoma"/>
                <a:ea typeface="Tahoma"/>
              </a:rPr>
              <a:t>el hi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6324480"/>
            <a:ext cx="1447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571500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62485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43434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4824360"/>
            <a:ext cx="16765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brothe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62024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h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201132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2452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62485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b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867280" y="2859120"/>
            <a:ext cx="2667240" cy="2627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029200" y="71748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37240" y="1174680"/>
            <a:ext cx="16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762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Hermanastro</a:t>
            </a:r>
            <a:r>
              <a:rPr b="0" lang="es-ES_tradnl" sz="2400" spc="-1" strike="noStrike">
                <a:solidFill>
                  <a:srgbClr val="0033cc"/>
                </a:solidFill>
                <a:latin typeface="Tahoma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295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tepbrother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57452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Gemelos/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6324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w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715000" y="533520"/>
            <a:ext cx="2590920" cy="2074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33195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38080" y="824040"/>
            <a:ext cx="2362320" cy="336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91120" y="533520"/>
            <a:ext cx="3276360" cy="2403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66680" y="4221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madra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3880" y="473868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9718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astra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62440" y="342900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siste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28804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padr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10160" y="580536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886200" y="4172040"/>
            <a:ext cx="1752480" cy="2609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791320" y="4572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ija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74040" y="510552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5668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ij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89520" y="611028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tía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83808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2971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61080" y="102240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2438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el t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0920" y="289548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un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04080" y="304812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os 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6480" y="3505320"/>
            <a:ext cx="161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aunts &amp; un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320040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pr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3733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usin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(bo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286000" cy="2100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2286000" cy="2160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733800" y="43434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a 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49528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usin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(gi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47320" y="551664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os pri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60339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u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52280" y="4343400"/>
            <a:ext cx="1905120" cy="2400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7400" y="46483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sobr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36320" y="511956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neph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55926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a sob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56120" y="595800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ni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91520" y="498312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os sob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5378400"/>
            <a:ext cx="167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ieces &amp; neph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abuelo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2651040" y="870120"/>
            <a:ext cx="176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914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grandp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52920" y="9144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abuel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80560" y="91440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grandm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19920" cy="4025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1447920"/>
            <a:ext cx="1676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028840" y="13716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6386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  <a:ea typeface="Tahoma"/>
              </a:rPr>
              <a:t>Nieto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571500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grands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76920" y="571500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  <a:ea typeface="Tahoma"/>
              </a:rPr>
              <a:t>Niet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57150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  <a:ea typeface="Tahoma"/>
              </a:rPr>
              <a:t>grand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752480" y="4495680"/>
            <a:ext cx="13716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495288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61722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  <a:ea typeface="Tahoma"/>
              </a:rPr>
              <a:t>grand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6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81080" y="72396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057400" y="46483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a esp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4678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esp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78320" y="51195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w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94920" y="510552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hus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5745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os espo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62600" y="626256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husband &amp; w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5:35:12Z</dcterms:created>
  <dc:creator>home</dc:creator>
  <dc:description/>
  <dc:language>en-US</dc:language>
  <cp:lastModifiedBy>NYCDOE</cp:lastModifiedBy>
  <dcterms:modified xsi:type="dcterms:W3CDTF">2011-11-21T14:38:47Z</dcterms:modified>
  <cp:revision>32</cp:revision>
  <dc:subject/>
  <dc:title>La familia</dc:title>
</cp:coreProperties>
</file>